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7C0-EAEC-4AC8-A4D7-C88AAFE2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636-8106-4FBB-B6AD-6F72D5A9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4F4-4468-425B-80B1-5B1EADB0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25A-436A-4F27-AC5D-A6FE4A2B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A36-CF89-4E3E-9A8F-6B54E25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CEF-514C-4E50-A7FF-FB613D79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2F6-B69D-4A60-B8C2-AD573A1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69E-FBBD-4410-801F-D1B1A1D9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C0D-F3F0-48E4-9252-E3ADC92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36B-B23C-46A1-BA2E-2A3C42A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727-A950-402C-AC7E-9A012F7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FCE-E5AD-4310-8514-61E8235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B196-53BF-4769-B876-95B40E579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581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Case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238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41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81600" y="8524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choice of control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27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204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39116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772400" cy="10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905120"/>
            <a:ext cx="2590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2743200"/>
            <a:ext cx="16765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35268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86600" y="6172200"/>
            <a:ext cx="13716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29400" y="571500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8:06Z</dcterms:modified>
  <cp:revision>213</cp:revision>
  <dc:subject/>
  <dc:title>Slide 1</dc:title>
</cp:coreProperties>
</file>